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C3B-0D78-41BD-A5BB-4EA902A7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DD9-2BD2-43F6-8CC8-836FD77F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10D-024E-4E40-97A7-3255B18A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4F1-E02E-414B-A5DB-95B98D01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85C-2C5A-476C-935E-022F21A3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D6C-48F1-4697-91F5-7A32136D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C19-91D0-4B18-AFA6-EF11A37B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8AB-53C3-4A0B-9CC8-B5FEE5E2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09A-BCE1-43C4-956C-01A75D13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0A0-9F21-4B27-BFBF-58619D4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EE5-3BE6-46BB-976F-2B444D3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5C2-B0D4-4B70-92FE-BD0BE2FF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78560"/>
            <a:ext cx="16002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78560"/>
            <a:ext cx="217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78560"/>
            <a:ext cx="16002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AAFE-C376-4037-9E62-C34F4270E4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0"/>
            <a:ext cx="6858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メイリオ"/>
              </a:rPr>
              <a:t>自社の強みを再発見する！　</a:t>
            </a:r>
            <a:r>
              <a:rPr b="1" lang="en-US" sz="1800" spc="-1" strike="noStrike">
                <a:solidFill>
                  <a:srgbClr val="ffffff"/>
                </a:solidFill>
                <a:latin typeface="メイリオ"/>
              </a:rPr>
              <a:t>USP</a:t>
            </a:r>
            <a:r>
              <a:rPr b="1" lang="ja-JP" sz="1800" spc="-1" strike="noStrike">
                <a:solidFill>
                  <a:srgbClr val="ffffff"/>
                </a:solidFill>
                <a:latin typeface="メイリオ"/>
              </a:rPr>
              <a:t>ワークシ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9723600"/>
            <a:ext cx="6858000" cy="357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1" descr="クラウドマネージメント協会ロゴ.jpg"/>
          <p:cNvPicPr/>
          <p:nvPr/>
        </p:nvPicPr>
        <p:blipFill>
          <a:blip r:embed="rId1"/>
          <a:stretch/>
        </p:blipFill>
        <p:spPr>
          <a:xfrm>
            <a:off x="4508640" y="9072720"/>
            <a:ext cx="2181240" cy="57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1"/>
          <p:cNvSpPr/>
          <p:nvPr/>
        </p:nvSpPr>
        <p:spPr>
          <a:xfrm>
            <a:off x="525600" y="468360"/>
            <a:ext cx="58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の度は、当社主催のセミナーにご来場いただき、誠にありがとうござ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御社の営業・商品戦略をネット上で行うため、まずは自社の強みを発見する必要があ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以下のワークシートへご記入をお願い致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2"/>
          <p:cNvSpPr/>
          <p:nvPr/>
        </p:nvSpPr>
        <p:spPr>
          <a:xfrm>
            <a:off x="417600" y="1039680"/>
            <a:ext cx="6021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【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１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】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御社の強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社の強みだと思えるものについて下記に記載願います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程度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るべく詳細まで記載頂くと、よりネット戦略が具体的に構築できます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3"/>
          <p:cNvSpPr/>
          <p:nvPr/>
        </p:nvSpPr>
        <p:spPr>
          <a:xfrm>
            <a:off x="2556720" y="1754280"/>
            <a:ext cx="1369440" cy="161676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＜例＞ 社長の個性、職人の技術力、創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年の信用、受賞履歴、デザイン力、仕入力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独自商品・ブランドあり、既存客からのリピート、○○へのこだわり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○○に特化している、○○なら地域のどの会社にも負けない 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4"/>
          <p:cNvSpPr/>
          <p:nvPr/>
        </p:nvSpPr>
        <p:spPr>
          <a:xfrm>
            <a:off x="428760" y="5678640"/>
            <a:ext cx="60213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【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３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】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ＰＲしたいキーワー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インターネットによる販売促進で、御社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いキーワードを記載ください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商品カテゴリーや商品名、ブランド名などをご記載下さい。（５個以内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記載いただいたキーワードの市場性を調査し、絞り込み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5"/>
          <p:cNvSpPr/>
          <p:nvPr/>
        </p:nvSpPr>
        <p:spPr>
          <a:xfrm>
            <a:off x="571680" y="6540480"/>
            <a:ext cx="5357520" cy="131220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＜例＞こだわり食材　栄養価が高い　牡蠣エキス配合　特定の商品名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6"/>
          <p:cNvSpPr/>
          <p:nvPr/>
        </p:nvSpPr>
        <p:spPr>
          <a:xfrm>
            <a:off x="482400" y="8066160"/>
            <a:ext cx="5959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会社名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　　お役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お名前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ご連絡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－　　　　－　　　　　　　　メールアドレス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対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7"/>
          <p:cNvSpPr/>
          <p:nvPr/>
        </p:nvSpPr>
        <p:spPr>
          <a:xfrm>
            <a:off x="404640" y="83534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8"/>
          <p:cNvSpPr/>
          <p:nvPr/>
        </p:nvSpPr>
        <p:spPr>
          <a:xfrm>
            <a:off x="404640" y="864252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04640" y="892980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0"/>
          <p:cNvSpPr/>
          <p:nvPr/>
        </p:nvSpPr>
        <p:spPr>
          <a:xfrm>
            <a:off x="1306800" y="9217080"/>
            <a:ext cx="23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ご協力ありがとうございました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1" descr="インターロジックロゴ"/>
          <p:cNvPicPr/>
          <p:nvPr/>
        </p:nvPicPr>
        <p:blipFill>
          <a:blip r:embed="rId2"/>
          <a:stretch/>
        </p:blipFill>
        <p:spPr>
          <a:xfrm>
            <a:off x="2712960" y="9109080"/>
            <a:ext cx="1579680" cy="468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2"/>
          <p:cNvSpPr/>
          <p:nvPr/>
        </p:nvSpPr>
        <p:spPr>
          <a:xfrm>
            <a:off x="420840" y="3433680"/>
            <a:ext cx="6021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【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２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】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ターゲット顧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今後狙っていきたいターゲット顧客を記載して下さい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るべく詳細まで記載頂くと、よりネット戦略が具体的に構築できます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3"/>
          <p:cNvSpPr/>
          <p:nvPr/>
        </p:nvSpPr>
        <p:spPr>
          <a:xfrm>
            <a:off x="571680" y="4183200"/>
            <a:ext cx="5357520" cy="14644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＜例＞ ①法人か個人かをまず記載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 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法人であれば、業種　年商　取扱商材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 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個人の場合は、性別　年齢　収入　家族構成　嗜好　ライフスタイル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7:21:59Z</dcterms:created>
  <dc:creator>YOKOTA</dc:creator>
  <dc:description/>
  <dc:language>en-US</dc:language>
  <cp:lastModifiedBy>Kakine Shinobu</cp:lastModifiedBy>
  <dcterms:modified xsi:type="dcterms:W3CDTF">2011-05-12T06:44:04Z</dcterms:modified>
  <cp:revision>16</cp:revision>
  <dc:subject/>
  <dc:title>スライド 1</dc:title>
</cp:coreProperties>
</file>